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8FFB0-2EB8-4711-AD53-80C271222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BB363-B82B-4B2E-A7D4-D7E53B980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336FF-D22C-4972-84F4-BDCFE609C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F7736-65B4-4167-87FE-7267028AB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AF84F-D7E3-41CA-8FBC-4E00E6296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313E8-A791-486A-8970-A83C6CFF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AD2D2-DEA9-48F6-AC65-0BDEB83A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01036-FB3E-4823-9CB8-EE40DAAFF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6EA8B-4783-4EC7-A153-555F63718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B5598-9C14-445E-9F46-2D9AF3ACC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0701-1FE0-4207-88C8-3129B1E1C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11075-6326-4C7D-A688-AB8B01BF1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15DE2C-D1E7-47BC-BF20-796D082DBE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rotocols we will look at</a:t>
            </a:r>
            <a:endParaRPr b="0" lang="en-US" sz="4400" spc="-1" strike="noStrike">
              <a:solidFill>
                <a:srgbClr val="000000"/>
              </a:solidFill>
              <a:latin typeface="Arial"/>
            </a:endParaRPr>
          </a:p>
        </p:txBody>
      </p:sp>
      <p:sp>
        <p:nvSpPr>
          <p:cNvPr id="42" name="PlaceHolder 2"/>
          <p:cNvSpPr>
            <a:spLocks noGrp="1"/>
          </p:cNvSpPr>
          <p:nvPr>
            <p:ph/>
          </p:nvPr>
        </p:nvSpPr>
        <p:spPr>
          <a:xfrm>
            <a:off x="502920" y="1767960"/>
            <a:ext cx="9070920" cy="53722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Low-level: ethernet, wifi, ...</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Underlying internet protocols: ip, tcp</a:t>
            </a:r>
            <a:endParaRPr b="0" lang="en-US" sz="3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Underlying internet services: dns, ...</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ore web protocol: http</a:t>
            </a:r>
            <a:endParaRPr b="0" lang="en-US" sz="3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JSON, XML-RPC,SOAP, REST, Google prot buffers</a:t>
            </a:r>
            <a:endParaRPr b="0" lang="en-US" sz="3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TTP</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69480" cy="4926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Read:</a:t>
            </a:r>
            <a:endParaRPr b="0" lang="en-US" sz="3200" spc="-1" strike="noStrike">
              <a:solidFill>
                <a:srgbClr val="000000"/>
              </a:solidFill>
              <a:latin typeface="Arial"/>
            </a:endParaRPr>
          </a:p>
          <a:p>
            <a:pPr marL="343080" indent="-341640">
              <a:lnSpc>
                <a:spcPct val="93000"/>
              </a:lnSpc>
              <a:spcAft>
                <a:spcPts val="1426"/>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ttp://en.wikipedia.org/wiki/Hypertext_Transfer_Protocol</a:t>
            </a:r>
            <a:endParaRPr b="0" lang="en-US" sz="2800" spc="-1" strike="noStrike">
              <a:solidFill>
                <a:srgbClr val="000000"/>
              </a:solidFill>
              <a:latin typeface="Arial"/>
            </a:endParaRPr>
          </a:p>
          <a:p>
            <a:pPr marL="343080" indent="-341640">
              <a:lnSpc>
                <a:spcPct val="93000"/>
              </a:lnSpc>
              <a:spcAft>
                <a:spcPts val="1426"/>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ttp://en.wikipedia.org/wiki/HTTP_persistent_connection</a:t>
            </a:r>
            <a:endParaRPr b="0" lang="en-US" sz="2800" spc="-1" strike="noStrike">
              <a:solidFill>
                <a:srgbClr val="000000"/>
              </a:solidFill>
              <a:latin typeface="Arial"/>
            </a:endParaRPr>
          </a:p>
          <a:p>
            <a:pPr marL="343080" indent="-341640">
              <a:lnSpc>
                <a:spcPct val="93000"/>
              </a:lnSpc>
              <a:spcAft>
                <a:spcPts val="1426"/>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ttp://en.wikipedia.org/wiki/List_of_HTTP_headers</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ackground: internet core protocols</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69480" cy="4926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ead some parts of</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ttp://lambda.ee/index.php/Andmeside_protokollid</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o refresh/extend your knowledg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Not a required part of the current cours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GET and POST</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http://carsonified.com/blog/dev/the-definitive-guide-to-get-vs-post/</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http://www.javascriptkit.com/dhtmltutors/ajaxgetpost.shtml</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GET:  </a:t>
            </a:r>
            <a:endParaRPr b="0" lang="en-US" sz="3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all data sent is in the headers &amp; URL</a:t>
            </a:r>
            <a:endParaRPr b="0" lang="en-US" sz="28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POST:</a:t>
            </a:r>
            <a:endParaRPr b="0" lang="en-US" sz="3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when sending, after headers comes tex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GET and POST</a:t>
            </a:r>
            <a:endParaRPr b="0" lang="en-US" sz="4400" spc="-1" strike="noStrike">
              <a:solidFill>
                <a:srgbClr val="000000"/>
              </a:solidFill>
              <a:latin typeface="Arial"/>
            </a:endParaRPr>
          </a:p>
        </p:txBody>
      </p:sp>
      <p:sp>
        <p:nvSpPr>
          <p:cNvPr id="50" name="PlaceHolder 2"/>
          <p:cNvSpPr>
            <a:spLocks noGrp="1"/>
          </p:cNvSpPr>
          <p:nvPr>
            <p:ph/>
          </p:nvPr>
        </p:nvSpPr>
        <p:spPr>
          <a:xfrm>
            <a:off x="502920" y="1767960"/>
            <a:ext cx="9070920" cy="5116680"/>
          </a:xfrm>
          <a:prstGeom prst="rect">
            <a:avLst/>
          </a:prstGeom>
          <a:noFill/>
          <a:ln w="0">
            <a:noFill/>
          </a:ln>
        </p:spPr>
        <p:txBody>
          <a:bodyPr lIns="0" rIns="0" tIns="1944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000000"/>
                </a:solidFill>
                <a:latin typeface="Arial"/>
              </a:rPr>
              <a:t>The GET method</a:t>
            </a:r>
            <a:endParaRPr b="0" lang="en-US" sz="2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000000"/>
                </a:solidFill>
                <a:latin typeface="Arial"/>
              </a:rPr>
              <a:t>If your form has METHOD="GET" in its FORM tag, your CGI program will receive the encoded form input in the environment variable QUERY_STRING.</a:t>
            </a:r>
            <a:endParaRPr b="0" lang="en-US" sz="2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000000"/>
                </a:solidFill>
                <a:latin typeface="Arial"/>
              </a:rPr>
              <a:t>The POST method</a:t>
            </a:r>
            <a:endParaRPr b="0" lang="en-US" sz="2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000000"/>
                </a:solidFill>
                <a:latin typeface="Arial"/>
              </a:rPr>
              <a:t>If your form has METHOD="POST" in its FORM tag, your CGI program will receive the encoded form input on stdin. The server will NOT send you an EOF on the end of the data, instead you should use the environment variable CONTENT_LENGTH to determine how much data you should read from stdin.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OST example</a:t>
            </a:r>
            <a:endParaRPr b="0" lang="en-US" sz="4400" spc="-1" strike="noStrike">
              <a:solidFill>
                <a:srgbClr val="000000"/>
              </a:solidFill>
              <a:latin typeface="Arial"/>
            </a:endParaRPr>
          </a:p>
        </p:txBody>
      </p:sp>
      <p:sp>
        <p:nvSpPr>
          <p:cNvPr id="52" name="PlaceHolder 2"/>
          <p:cNvSpPr>
            <a:spLocks noGrp="1"/>
          </p:cNvSpPr>
          <p:nvPr>
            <p:ph/>
          </p:nvPr>
        </p:nvSpPr>
        <p:spPr>
          <a:xfrm>
            <a:off x="456840" y="1143000"/>
            <a:ext cx="9070920" cy="5880240"/>
          </a:xfrm>
          <a:prstGeom prst="rect">
            <a:avLst/>
          </a:prstGeom>
          <a:noFill/>
          <a:ln w="0">
            <a:noFill/>
          </a:ln>
        </p:spPr>
        <p:txBody>
          <a:bodyPr lIns="0" rIns="0" tIns="141120" bIns="0" anchor="t">
            <a:normAutofit fontScale="99000"/>
          </a:bodyPr>
          <a:p>
            <a:pPr marL="425880" indent="-320760">
              <a:lnSpc>
                <a:spcPct val="65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Read query</a:t>
            </a:r>
            <a:endParaRPr b="0" lang="en-US" sz="32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if (getenv("CONTENT_LENGTH") == NULL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sscanf(getenv("CONTENT_LENGTH"), "%d", &amp;cl) != 1) {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data_error(NULL,"bad http format or missing content length received");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return 1;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 Create space for content: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querybuf = malloc(cl + 1);</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if (querybuf == NULL)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data_error(NULL,"cannot malloc for http request: bad content length?");</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return 1;</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Read content: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a';</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for(i=0; i&lt;cl &amp;&amp; c!=EOF; i++)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fgetc(stdin);</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querybuf[i]=c;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querybuf[i]=0;</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OST example</a:t>
            </a:r>
            <a:endParaRPr b="0" lang="en-US" sz="4400" spc="-1" strike="noStrike">
              <a:solidFill>
                <a:srgbClr val="000000"/>
              </a:solidFill>
              <a:latin typeface="Arial"/>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Send answer to query</a:t>
            </a:r>
            <a:endParaRPr b="0" lang="en-US" sz="32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 </a:t>
            </a:r>
            <a:r>
              <a:rPr b="0" lang="en-US" sz="1600" spc="-1" strike="noStrike">
                <a:solidFill>
                  <a:srgbClr val="000000"/>
                </a:solidFill>
                <a:latin typeface="Arial"/>
              </a:rPr>
              <a:t>len=strlen(datastr);    </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lenstr=sdl_int_to_str(len);</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res=sdl_append5_str(</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ontent-type: text/xml\n",</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ontent-length: ",</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lenstr,</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n\n",</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datastr);</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write_log_entry("answered to http req",res); </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printf("%s",r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xml-rpc</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5651640"/>
          </a:xfrm>
          <a:prstGeom prst="rect">
            <a:avLst/>
          </a:prstGeom>
          <a:noFill/>
          <a:ln w="0">
            <a:noFill/>
          </a:ln>
        </p:spPr>
        <p:txBody>
          <a:bodyPr lIns="0" rIns="0" tIns="28080" bIns="0" anchor="t">
            <a:normAutofit fontScale="99000"/>
          </a:bodyPr>
          <a:p>
            <a:pPr marL="425880" indent="-32076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http://www.xmlrpc.com/</a:t>
            </a:r>
            <a:endParaRPr b="0" lang="en-US" sz="3200" spc="-1" strike="noStrike">
              <a:solidFill>
                <a:srgbClr val="000000"/>
              </a:solidFill>
              <a:latin typeface="Arial"/>
            </a:endParaRPr>
          </a:p>
          <a:p>
            <a:pPr marL="425880" indent="-32076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POST /RPC2 HTTP/1.0</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User-Agent: Frontier/5.1.2 (WinNT)</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Host: betty.userland.com</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Content-Type: text/xml</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Content-length: 181</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lt;?xml version="1.0"?&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methodCall&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methodName&gt;examples.getStateName&lt;/methodName&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params&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param&gt; &lt;value&gt;&lt;i4&gt;41&lt;/i4&gt;&lt;/value&gt; &lt;/param&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params&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methodCall&gt;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JSON</a:t>
            </a:r>
            <a:endParaRPr b="0" lang="en-US" sz="4400" spc="-1" strike="noStrike">
              <a:solidFill>
                <a:srgbClr val="000000"/>
              </a:solidFill>
              <a:latin typeface="Arial"/>
            </a:endParaRPr>
          </a:p>
        </p:txBody>
      </p:sp>
      <p:sp>
        <p:nvSpPr>
          <p:cNvPr id="5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JSON details and official spec:</a:t>
            </a:r>
            <a:endParaRPr b="0" lang="en-US" sz="3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http://en.wikipedia.org/wiki/JSON</a:t>
            </a:r>
            <a:endParaRPr b="0" lang="en-US" sz="28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www.json.org</a:t>
            </a:r>
            <a:endParaRPr b="0" lang="en-US" sz="28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http://tools.ietf.org/html/rfc4627</a:t>
            </a:r>
            <a:endParaRPr b="0" lang="en-US" sz="28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JSON-RPC</a:t>
            </a:r>
            <a:endParaRPr b="0" lang="en-US" sz="3200" spc="-1" strike="noStrike">
              <a:solidFill>
                <a:srgbClr val="000000"/>
              </a:solidFill>
              <a:latin typeface="Arial"/>
            </a:endParaRPr>
          </a:p>
          <a:p>
            <a:pPr lvl="1" marL="86184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http://json-rpc.org/wiki/specific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2:01:55Z</dcterms:created>
  <dc:creator>Tanel Tammet</dc:creator>
  <dc:description/>
  <dc:language>en-US</dc:language>
  <cp:lastModifiedBy/>
  <cp:revision>0</cp:revision>
  <dc:subject/>
  <dc:title/>
</cp:coreProperties>
</file>